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F6F-ACA2-4B02-B676-ACCB3BE0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030-2A22-4F9B-9E43-FC0303AB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F68-4DD8-4D8D-AEB0-FD505AA6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C83-5BE9-4273-960C-C0EF55A9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47E-C7FE-4552-9A34-231257CD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AE6-29BE-4EA6-BB8B-99DA764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123-3069-4BCC-AE4B-BF1EFBD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634-D217-4A7E-9012-FDCE92B3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1DB-C2F8-4995-A01F-4A559402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C6B-9996-41FA-B8C1-474D3C98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3A1-7CA4-4A39-96C6-389779FA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05F-B13C-4CA1-A4C3-457C770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73A-482E-440B-8B28-A1DABCD6C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2.wmf"/><Relationship Id="rId5" Type="http://schemas.openxmlformats.org/officeDocument/2006/relationships/image" Target="../media/image7.wmf"/><Relationship Id="rId6" Type="http://schemas.openxmlformats.org/officeDocument/2006/relationships/image" Target="../media/image2.wmf"/><Relationship Id="rId7" Type="http://schemas.openxmlformats.org/officeDocument/2006/relationships/image" Target="../media/image7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2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2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image" Target="../media/image2.wmf"/><Relationship Id="rId9" Type="http://schemas.openxmlformats.org/officeDocument/2006/relationships/image" Target="../media/image7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image" Target="../media/image2.wmf"/><Relationship Id="rId9" Type="http://schemas.openxmlformats.org/officeDocument/2006/relationships/image" Target="../media/image7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image" Target="../media/image7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2.wmf"/><Relationship Id="rId10" Type="http://schemas.openxmlformats.org/officeDocument/2006/relationships/image" Target="../media/image7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352680"/>
            <a:ext cx="1067040" cy="4572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352680"/>
            <a:ext cx="1067040" cy="4572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352680"/>
            <a:ext cx="1066680" cy="4572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HD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352680"/>
            <a:ext cx="1066680" cy="4572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HD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3352680"/>
            <a:ext cx="1067040" cy="4572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352680"/>
            <a:ext cx="1066680" cy="4572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3434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26708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4191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19720" y="434304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343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4267080"/>
            <a:ext cx="243828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895480"/>
            <a:ext cx="1067040" cy="45720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2895480"/>
            <a:ext cx="2133720" cy="45720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2895480"/>
            <a:ext cx="2133720" cy="45720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72400" y="2895480"/>
            <a:ext cx="1066680" cy="45720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43434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4760" y="43434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LIAISON LOU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18480" y="43434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ANN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2096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18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0958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1952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4040" y="190512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OUCHE 3 COMM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633680" y="31100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473040" y="343836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1023840" y="2417760"/>
            <a:ext cx="695520" cy="14875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5278320" y="183996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4363920" y="1249200"/>
            <a:ext cx="1013040" cy="26305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>
            <a:off x="3703680" y="309708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349360" y="3390840"/>
            <a:ext cx="142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70560" y="1604880"/>
            <a:ext cx="4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X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87400" y="35989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9800" y="40784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94600" y="106848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5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02240" y="1969920"/>
            <a:ext cx="73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Rés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2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49320" y="525600"/>
            <a:ext cx="3098880" cy="11595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Table routage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2.0.0.0 - Connecté - Eth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4.0.0.0 - Connecté - Séri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5.0.0.0 - 14.0.0.1 - Séri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0.0.0.0 - 14.0.0.1 - Séri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7400" y="1701720"/>
            <a:ext cx="0" cy="1473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1880" y="3176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PC de J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06520" y="304020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E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95360" y="3040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82960" y="277344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95440" y="4627440"/>
            <a:ext cx="3200400" cy="11595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Table routage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5.0.0.0 - Connecté - Eth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4.0.0.0 - Connecté - Série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0.0.0.0 - 15.0.0.1 - Eth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0.0.0.0 - 14.0.0.2 - Série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15040" y="33926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4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19960" y="37987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390840" y="3466800"/>
            <a:ext cx="3556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064040" y="3606480"/>
            <a:ext cx="0" cy="1028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25760" y="3040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39960" y="3154320"/>
            <a:ext cx="83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HD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94880" y="12589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5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321160" y="1486080"/>
            <a:ext cx="5112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07560" y="38750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5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444560" y="3504960"/>
            <a:ext cx="1270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65720" y="304020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E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4160" y="397656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4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2387160" y="3467160"/>
            <a:ext cx="26676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5977080" y="1617840"/>
            <a:ext cx="1139760" cy="26301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5942160" y="3035160"/>
            <a:ext cx="1704960" cy="1251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6666480" y="15127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0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06160" y="268128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0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857640" y="2895480"/>
            <a:ext cx="126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12400" y="2490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0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6032160" y="2133720"/>
            <a:ext cx="165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62600" y="4627440"/>
            <a:ext cx="2882880" cy="11595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Table routage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5.0.0.0 - Connecté - Et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4.0.0.0 - 15.0.0.2 - Et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2.0.0.0 - 15.0.0.2 - Et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0.0.0.0 - Connecté - Eth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38560" y="2138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27760" y="182088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E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638680" y="2374560"/>
            <a:ext cx="0" cy="2235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00280" y="5232240"/>
            <a:ext cx="6933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6195960" y="1473120"/>
            <a:ext cx="1704960" cy="12510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892080" y="153360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3754440" y="1623960"/>
            <a:ext cx="1089000" cy="7812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612800" y="1676520"/>
            <a:ext cx="2184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51360" y="1676520"/>
            <a:ext cx="2184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3640" y="12589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89760" y="10429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22320" y="10684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90.1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647960" y="13208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97280" y="1282680"/>
            <a:ext cx="6336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00640" y="142416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urce : 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45640" y="167796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92.145.182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966560" y="142416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urce : 190.1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93720" y="169056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48920" y="12081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90.145.182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851360" y="2273400"/>
            <a:ext cx="2184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600200" y="2273400"/>
            <a:ext cx="2184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27920" y="204624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rc. : 192.145.182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49960" y="227484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90.1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0440" y="202104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rc. : 192.145.182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47400" y="227484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88560" y="728640"/>
            <a:ext cx="113796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NA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104480" y="863640"/>
            <a:ext cx="2476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914720" y="863640"/>
            <a:ext cx="2476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99480" y="55080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RESEAU P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53000" y="5508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92640" y="1028880"/>
            <a:ext cx="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1704960" cy="12510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5"/>
          <a:stretch/>
        </p:blipFill>
        <p:spPr>
          <a:xfrm>
            <a:off x="7064280" y="413712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 flipH="1">
            <a:off x="1612800" y="4267080"/>
            <a:ext cx="2184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851360" y="4267080"/>
            <a:ext cx="2184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73640" y="3849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89760" y="3633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22320" y="365904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90.1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90.10.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470120" y="4051440"/>
            <a:ext cx="33012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7280" y="3873600"/>
            <a:ext cx="330120" cy="10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92960" y="400212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urce : 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05920" y="42688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91920" y="4002120"/>
            <a:ext cx="17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urce : 80.145.180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95880" y="42814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90.1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92120" y="379872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80.145.180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51360" y="4863960"/>
            <a:ext cx="2184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00200" y="4863960"/>
            <a:ext cx="2184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49160" y="46245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rc. : 190.1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29200" y="48657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80.145.180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61080" y="461160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rc. : 1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47400" y="486576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77760" y="2862360"/>
            <a:ext cx="11437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N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104480" y="3454560"/>
            <a:ext cx="2476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914720" y="3454560"/>
            <a:ext cx="2476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99480" y="314172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RESEAU P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53000" y="314172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92640" y="3619440"/>
            <a:ext cx="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6"/>
          <a:stretch/>
        </p:blipFill>
        <p:spPr>
          <a:xfrm>
            <a:off x="3173400" y="4241880"/>
            <a:ext cx="1704960" cy="2165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7064280" y="547056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 flipH="1">
            <a:off x="4851360" y="5600880"/>
            <a:ext cx="2184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7960" y="533556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urce : 20.10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95880" y="561492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90.10.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65640" y="524664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0.10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51360" y="6197760"/>
            <a:ext cx="2184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49160" y="595800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rc. : 190.10.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02720" y="619920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20.10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8"/>
          <a:stretch/>
        </p:blipFill>
        <p:spPr>
          <a:xfrm>
            <a:off x="0" y="5423040"/>
            <a:ext cx="1704960" cy="12506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 flipH="1">
            <a:off x="1612800" y="5613480"/>
            <a:ext cx="2184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1040" y="52466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4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92960" y="534816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urce : 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05920" y="56149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4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6210360"/>
            <a:ext cx="2184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61080" y="595800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rc. : 14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7400" y="621180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st. : 14.0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68560" y="592308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5511960" y="1854360"/>
            <a:ext cx="2577960" cy="3022560"/>
          </a:xfrm>
          <a:prstGeom prst="ellipse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1854360"/>
            <a:ext cx="5207040" cy="3022560"/>
          </a:xfrm>
          <a:prstGeom prst="ellipse">
            <a:avLst/>
          </a:prstGeom>
          <a:gradFill rotWithShape="0">
            <a:gsLst>
              <a:gs pos="0">
                <a:srgbClr val="008d69"/>
              </a:gs>
              <a:gs pos="50000">
                <a:srgbClr val="00cc99"/>
              </a:gs>
              <a:gs pos="100000">
                <a:srgbClr val="008d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57480" y="1866960"/>
            <a:ext cx="2590560" cy="1307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136600" y="183816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014920" y="494172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8.10.1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94480" y="1563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34080" y="237636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2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31920" y="3606840"/>
            <a:ext cx="2590920" cy="1308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1422360" y="3975120"/>
            <a:ext cx="1704960" cy="12510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896560" y="41544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28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13040" y="515772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Serveur de pa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00600" y="13478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PC de J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720" y="3087720"/>
            <a:ext cx="124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Réseau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de l ’entre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de J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2103480" y="31226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4986360" y="312264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334200" y="218916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6807240" y="2832120"/>
            <a:ext cx="1704960" cy="125100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399800" y="259236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8.10.1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262280" y="381168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www.jebul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06560" y="3416400"/>
            <a:ext cx="226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08520" y="1182600"/>
            <a:ext cx="2017080" cy="8240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able de routa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.0.0.0 - Connecté - 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8.10.0.0 - Connecté - 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0.0.0.0 - 14.0.0.1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806200" y="2031840"/>
            <a:ext cx="1854360" cy="1231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75640" y="294804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50080" y="359568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69840" y="3379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4240" y="31892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4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71440" y="31892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11480" y="2489040"/>
            <a:ext cx="180720" cy="1930680"/>
          </a:xfrm>
          <a:custGeom>
            <a:avLst/>
            <a:gdLst/>
            <a:ahLst/>
            <a:rect l="l" t="t" r="r" b="b"/>
            <a:pathLst>
              <a:path w="114" h="1216">
                <a:moveTo>
                  <a:pt x="71" y="0"/>
                </a:moveTo>
                <a:cubicBezTo>
                  <a:pt x="92" y="60"/>
                  <a:pt x="114" y="120"/>
                  <a:pt x="103" y="256"/>
                </a:cubicBezTo>
                <a:cubicBezTo>
                  <a:pt x="92" y="392"/>
                  <a:pt x="14" y="656"/>
                  <a:pt x="7" y="816"/>
                </a:cubicBezTo>
                <a:cubicBezTo>
                  <a:pt x="0" y="976"/>
                  <a:pt x="31" y="1096"/>
                  <a:pt x="63" y="121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2502000"/>
            <a:ext cx="914400" cy="852480"/>
          </a:xfrm>
          <a:custGeom>
            <a:avLst/>
            <a:gdLst/>
            <a:ahLst/>
            <a:rect l="l" t="t" r="r" b="b"/>
            <a:pathLst>
              <a:path w="576" h="537">
                <a:moveTo>
                  <a:pt x="16" y="0"/>
                </a:moveTo>
                <a:cubicBezTo>
                  <a:pt x="29" y="14"/>
                  <a:pt x="43" y="29"/>
                  <a:pt x="48" y="88"/>
                </a:cubicBezTo>
                <a:cubicBezTo>
                  <a:pt x="53" y="147"/>
                  <a:pt x="53" y="291"/>
                  <a:pt x="48" y="352"/>
                </a:cubicBezTo>
                <a:cubicBezTo>
                  <a:pt x="43" y="413"/>
                  <a:pt x="0" y="427"/>
                  <a:pt x="16" y="456"/>
                </a:cubicBezTo>
                <a:cubicBezTo>
                  <a:pt x="32" y="485"/>
                  <a:pt x="51" y="519"/>
                  <a:pt x="144" y="528"/>
                </a:cubicBezTo>
                <a:cubicBezTo>
                  <a:pt x="237" y="537"/>
                  <a:pt x="406" y="524"/>
                  <a:pt x="576" y="51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1280" y="3130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838080" y="533520"/>
            <a:ext cx="7645680" cy="34923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5964120" y="247500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616120" y="2476440"/>
            <a:ext cx="3429000" cy="507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717640" y="2641680"/>
            <a:ext cx="3378240" cy="13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20073000">
            <a:off x="2503440" y="1820520"/>
            <a:ext cx="1847880" cy="507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705040" y="1739880"/>
            <a:ext cx="1473120" cy="69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2027160" y="222084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 rot="1282800">
            <a:off x="4510080" y="1693800"/>
            <a:ext cx="1847880" cy="507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75040" y="1752480"/>
            <a:ext cx="1244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5951520" y="1916280"/>
            <a:ext cx="809640" cy="5806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4"/>
          <a:stretch/>
        </p:blipFill>
        <p:spPr>
          <a:xfrm>
            <a:off x="4084560" y="138276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3454560" y="685800"/>
            <a:ext cx="2425680" cy="723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5"/>
          <a:stretch/>
        </p:blipFill>
        <p:spPr>
          <a:xfrm>
            <a:off x="3979800" y="871560"/>
            <a:ext cx="158436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6667560" y="1168560"/>
            <a:ext cx="838080" cy="2336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6"/>
          <a:stretch/>
        </p:blipFill>
        <p:spPr>
          <a:xfrm>
            <a:off x="6624720" y="1465200"/>
            <a:ext cx="695160" cy="14875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257480" y="1359000"/>
            <a:ext cx="838080" cy="1930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1455840" y="1490760"/>
            <a:ext cx="695160" cy="14875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305880" y="348444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Réseau global : 12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659160" y="2145240"/>
            <a:ext cx="12690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S/rx 1 : 12.1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73040" y="585720"/>
            <a:ext cx="12690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S/rx 2 : 12.2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6891120" y="2324520"/>
            <a:ext cx="12690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S/rx 3 : 12.3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77880" y="1589040"/>
            <a:ext cx="12690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S/rx 4 : 12.4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7360" y="2833560"/>
            <a:ext cx="12690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S/rx 5 : 12.5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45760" y="1677960"/>
            <a:ext cx="12690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S/rx 6 : 12.6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rot="1732800">
            <a:off x="3634920" y="3670200"/>
            <a:ext cx="5508720" cy="212400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939960" y="1333440"/>
            <a:ext cx="1295280" cy="7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282800">
            <a:off x="2516040" y="1274760"/>
            <a:ext cx="1847880" cy="507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81360" y="1333440"/>
            <a:ext cx="1244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3957480" y="149688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2090880" y="96372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460520" y="266760"/>
            <a:ext cx="2425680" cy="723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1986120" y="452520"/>
            <a:ext cx="1584000" cy="60624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4673520" y="749160"/>
            <a:ext cx="838440" cy="2337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4630680" y="1046160"/>
            <a:ext cx="695520" cy="14875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343600" y="166680"/>
            <a:ext cx="7383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1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5160960" y="1904400"/>
            <a:ext cx="7383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3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85080" y="1157400"/>
            <a:ext cx="7383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2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5"/>
          <a:stretch/>
        </p:blipFill>
        <p:spPr>
          <a:xfrm>
            <a:off x="262080" y="1916280"/>
            <a:ext cx="809640" cy="5806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702800" y="2414520"/>
            <a:ext cx="1755000" cy="10065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Table de routa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9.0.0.0 - Connecté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1.0.0.0 - 9.0.0.1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.0.0.0 - 9.0.0.1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3.0.0.0 - 9.0.0.1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56760" y="1360440"/>
            <a:ext cx="6516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9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875880" y="2285640"/>
            <a:ext cx="647640" cy="291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17080" y="1373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45720" y="2021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390840" y="4533840"/>
            <a:ext cx="1295640" cy="7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282800">
            <a:off x="4967280" y="4475160"/>
            <a:ext cx="1847880" cy="507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232240" y="4533840"/>
            <a:ext cx="1244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6408720" y="469728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4541760" y="416412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3911760" y="3467160"/>
            <a:ext cx="2425680" cy="723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8"/>
          <a:stretch/>
        </p:blipFill>
        <p:spPr>
          <a:xfrm>
            <a:off x="4437000" y="3652920"/>
            <a:ext cx="1584360" cy="6062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7124760" y="4343400"/>
            <a:ext cx="838080" cy="1943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9"/>
          <a:stretch/>
        </p:blipFill>
        <p:spPr>
          <a:xfrm>
            <a:off x="7132680" y="4665600"/>
            <a:ext cx="695160" cy="1487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4794840" y="3367080"/>
            <a:ext cx="7383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1.1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5400000">
            <a:off x="7610400" y="5103360"/>
            <a:ext cx="7383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1.3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36320" y="4357800"/>
            <a:ext cx="7383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1.2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0"/>
          <a:stretch/>
        </p:blipFill>
        <p:spPr>
          <a:xfrm>
            <a:off x="2712960" y="5116680"/>
            <a:ext cx="809640" cy="58068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239640" y="5843520"/>
            <a:ext cx="1755000" cy="8240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Routeur exte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Table de routa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9.0.0.0 - Connecté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1.0.0.0 - 9.0.0.1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16040" y="4713120"/>
            <a:ext cx="6516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9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3327120" y="5486400"/>
            <a:ext cx="609480" cy="355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68320" y="45734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96960" y="52214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02200" y="2859120"/>
            <a:ext cx="1843560" cy="11890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Routeur inte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Table de routa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9.0.0.0 - Connecté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1.1.0.0 - Connecté - 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1.2.0.0 - Connecté -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1.3.0.0 - 11.2.0.1 -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195240" y="4903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206680" y="3581280"/>
            <a:ext cx="1422360" cy="723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86160" y="4357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38360" y="4332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78920" y="398952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04080" y="519912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Réseau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11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 flipV="1">
            <a:off x="1282680" y="1498680"/>
            <a:ext cx="1295280" cy="7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4080" y="1498680"/>
            <a:ext cx="1244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4300560" y="166212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2433600" y="112860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2328840" y="617400"/>
            <a:ext cx="1584360" cy="60660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5024520" y="1630440"/>
            <a:ext cx="695160" cy="1487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594520" y="179280"/>
            <a:ext cx="99900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1.1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255.255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67760" y="2233440"/>
            <a:ext cx="9687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1.3.0.0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601080" y="1220760"/>
            <a:ext cx="9687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1.2.0.0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604800" y="208116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1081080" y="1386000"/>
            <a:ext cx="8254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9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255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60160" y="15382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120" y="1906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49280" y="1906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77640" y="1322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05000" y="1309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456640" y="99216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42560" y="9669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80520" y="2185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5960" y="14875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71240" y="191916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20120" y="162720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1147680" y="5214960"/>
            <a:ext cx="3197160" cy="12240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3327480" y="4915080"/>
            <a:ext cx="1993680" cy="3427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Black"/>
              </a:rPr>
              <a:t>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27480" y="4572000"/>
            <a:ext cx="1993680" cy="3430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Black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27480" y="4229280"/>
            <a:ext cx="1993680" cy="34272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Black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27480" y="3645000"/>
            <a:ext cx="1993680" cy="5842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Black"/>
              </a:rPr>
              <a:t>Couches Ha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73320" y="49323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Couch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73320" y="45766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Couch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73320" y="42339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Couch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93760" y="37386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Couche 4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84760" y="325584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51680" y="564372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 rot="16200000">
            <a:off x="4381560" y="-2781360"/>
            <a:ext cx="469800" cy="7201080"/>
          </a:xfrm>
          <a:prstGeom prst="flowChartDocumen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70080" y="584280"/>
            <a:ext cx="181620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@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086280" y="584280"/>
            <a:ext cx="1815840" cy="4698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 Black"/>
              </a:rPr>
              <a:t>@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9640" y="2438280"/>
            <a:ext cx="4101840" cy="4701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62200" y="2717640"/>
            <a:ext cx="0" cy="190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46200" y="2717640"/>
            <a:ext cx="0" cy="190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17960" y="2451240"/>
            <a:ext cx="1260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13120" y="2717640"/>
            <a:ext cx="0" cy="190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97480" y="2717640"/>
            <a:ext cx="0" cy="190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079640" y="2717640"/>
            <a:ext cx="0" cy="190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81480" y="2717640"/>
            <a:ext cx="0" cy="190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066320" y="1066680"/>
            <a:ext cx="203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98880" y="1054080"/>
            <a:ext cx="2070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117440" y="23493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124080" y="23493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56760" y="199872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N° Constru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487680" y="1998720"/>
            <a:ext cx="9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N° Ca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86200" y="29894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84600" y="29894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88760" y="2989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48280" y="2989440"/>
            <a:ext cx="4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40560" y="2989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15200" y="29894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6080" y="298944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96640" y="329400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95040" y="329400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93440" y="329400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54040" y="329400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939840" y="329400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25640" y="329400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77400" y="329400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11080" y="1825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TRAME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333440" y="1270080"/>
            <a:ext cx="5715000" cy="359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1003320"/>
            <a:ext cx="4280040" cy="43164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44720" y="1066680"/>
            <a:ext cx="1104840" cy="330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IP D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82440" y="10717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S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14800" y="1066680"/>
            <a:ext cx="2095560" cy="330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T-PDU (TC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00280" y="2057400"/>
            <a:ext cx="1587240" cy="1168560"/>
          </a:xfrm>
          <a:prstGeom prst="flowChartPunchedCard">
            <a:avLst/>
          </a:prstGeom>
          <a:solidFill>
            <a:srgbClr val="cccc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12240" y="250668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 Black"/>
              </a:rPr>
              <a:t>Table 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438280" y="2197080"/>
            <a:ext cx="2438640" cy="93996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PD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Dans Tabl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657600" y="1396800"/>
            <a:ext cx="0" cy="812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33440" y="3809880"/>
            <a:ext cx="2616120" cy="660600"/>
          </a:xfrm>
          <a:prstGeom prst="rect">
            <a:avLst/>
          </a:prstGeom>
          <a:solidFill>
            <a:srgbClr val="cc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Process 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657600" y="3136680"/>
            <a:ext cx="0" cy="812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41400" y="3086280"/>
            <a:ext cx="0" cy="863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64080" y="3268800"/>
            <a:ext cx="3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65520" y="330372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Corresp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43200" y="4521240"/>
            <a:ext cx="4280040" cy="43164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44720" y="4584600"/>
            <a:ext cx="1104840" cy="330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@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382440" y="458964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S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14800" y="4584600"/>
            <a:ext cx="2095560" cy="330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N-PDU (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89520" y="2666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65840" y="2870280"/>
            <a:ext cx="110484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@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936960" y="3200400"/>
            <a:ext cx="1486080" cy="139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46120" y="23414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2938320" y="1303200"/>
            <a:ext cx="5801040" cy="12240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3686040" y="70812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4587840" y="246060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4"/>
          <a:stretch/>
        </p:blipFill>
        <p:spPr>
          <a:xfrm>
            <a:off x="6442200" y="2448000"/>
            <a:ext cx="653760" cy="8175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5"/>
          <a:stretch/>
        </p:blipFill>
        <p:spPr>
          <a:xfrm>
            <a:off x="7394400" y="70812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715560" y="271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373160" y="2588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74760" y="33066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465080" y="33195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966360" y="50004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2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45800" y="310356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2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07520" y="311616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5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57360" y="48744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1A 34 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27400" y="1574640"/>
            <a:ext cx="344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7581960" y="1396800"/>
            <a:ext cx="0" cy="177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54960" y="1574640"/>
            <a:ext cx="0" cy="800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016600" y="157464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02200" y="1397160"/>
            <a:ext cx="0" cy="177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81560" y="1193760"/>
            <a:ext cx="2971800" cy="35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80240" y="1257480"/>
            <a:ext cx="1396800" cy="26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ARP-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65800" y="127152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FF FF FF FF FF 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078920" y="317520"/>
            <a:ext cx="2057400" cy="863640"/>
          </a:xfrm>
          <a:prstGeom prst="wedgeRoundRectCallout">
            <a:avLst>
              <a:gd name="adj1" fmla="val -78319"/>
              <a:gd name="adj2" fmla="val 49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13480" y="414360"/>
            <a:ext cx="19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ucou, je suis 10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r 00 00 0C 1A 34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e cherche 10.0.0.2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24520" y="9604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ame MAC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449280" y="4859280"/>
            <a:ext cx="5800680" cy="122400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1197000" y="426420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2098800" y="6016680"/>
            <a:ext cx="653760" cy="8175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3952800" y="600408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4905360" y="426420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226520" y="38275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84120" y="3814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80720" y="63039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50200" y="62532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77320" y="405612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2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69280" y="597384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2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75120" y="598644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5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68320" y="40435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1A 34 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38360" y="5130720"/>
            <a:ext cx="344160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92160" y="4749840"/>
            <a:ext cx="2971800" cy="35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67160" y="4813200"/>
            <a:ext cx="1320840" cy="266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ARP-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47240" y="4827600"/>
            <a:ext cx="144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00 00 0C 1A 34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6311160" y="4432320"/>
            <a:ext cx="2057400" cy="863640"/>
          </a:xfrm>
          <a:prstGeom prst="wedgeRoundRectCallout">
            <a:avLst>
              <a:gd name="adj1" fmla="val 93287"/>
              <a:gd name="adj2" fmla="val -3639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96480" y="4554360"/>
            <a:ext cx="19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ucou, je suis 10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 j ’habite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0 00 0C 1A 34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36200" y="45165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ame MAC Un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584280" y="431640"/>
            <a:ext cx="22986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4280" y="6602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55800" y="6602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84280" y="1295280"/>
            <a:ext cx="22986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ongueur Adresse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4280" y="863640"/>
            <a:ext cx="22986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PROTOC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4280" y="10922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55800" y="10922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4280" y="1523880"/>
            <a:ext cx="229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ongueur Adresse protocol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4280" y="1752480"/>
            <a:ext cx="22986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84280" y="19810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55800" y="19810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84280" y="2184480"/>
            <a:ext cx="229860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Adresse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4280" y="24130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55800" y="24130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4280" y="28447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755800" y="28447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4280" y="32767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755800" y="32767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4280" y="26161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55800" y="26161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84280" y="28447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84280" y="30481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55800" y="28447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755800" y="30607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84280" y="3479760"/>
            <a:ext cx="22986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Adresse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Protocol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84280" y="37083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55800" y="37083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4280" y="41403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755800" y="41403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84280" y="39117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55800" y="39117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84280" y="4343400"/>
            <a:ext cx="229860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Adresse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4280" y="457200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755800" y="457200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84280" y="50036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755800" y="50036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84280" y="54356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755800" y="54356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4280" y="47750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755800" y="47750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4280" y="50036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4280" y="52070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55800" y="50036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755800" y="52196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84280" y="5638680"/>
            <a:ext cx="22986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Adresse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Protocol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4280" y="58672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755800" y="58672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84280" y="62992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55800" y="62992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4280" y="60706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55800" y="60706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3962520"/>
            <a:ext cx="6858000" cy="8380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334120"/>
            <a:ext cx="1066680" cy="10666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X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X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4343400"/>
            <a:ext cx="1066680" cy="4572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R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5334120"/>
            <a:ext cx="1066680" cy="10666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Satel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5334120"/>
            <a:ext cx="1066680" cy="10666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3962520"/>
            <a:ext cx="1066680" cy="4572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819520"/>
            <a:ext cx="320040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819520"/>
            <a:ext cx="320040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1066680" cy="53316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1219320"/>
            <a:ext cx="1066680" cy="53316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533520"/>
            <a:ext cx="1066680" cy="53316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1219320"/>
            <a:ext cx="1066680" cy="53316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33520"/>
            <a:ext cx="1066680" cy="53316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219320"/>
            <a:ext cx="1067040" cy="53316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Boo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533520"/>
            <a:ext cx="1066680" cy="53316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066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066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066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1066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240" y="99072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Co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1240" y="289548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Co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240" y="411480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Co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2280" y="556272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Cou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1 e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1224000" y="1658880"/>
            <a:ext cx="5800680" cy="12240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2"/>
          <a:stretch/>
        </p:blipFill>
        <p:spPr>
          <a:xfrm>
            <a:off x="1971720" y="106380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2189160" y="51264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2.0.1/</a:t>
            </a: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1A 34 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18800" y="2532240"/>
            <a:ext cx="161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2.254.254/</a:t>
            </a: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2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8840" y="3137040"/>
            <a:ext cx="34419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143000" y="2755800"/>
            <a:ext cx="2971800" cy="35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17640" y="2819520"/>
            <a:ext cx="1320840" cy="266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ARP-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98080" y="2833560"/>
            <a:ext cx="144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00 00 0C 1A 34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86680" y="252252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ame MAC Un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2138400" y="3386160"/>
            <a:ext cx="5800680" cy="122400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6318720" y="4475160"/>
            <a:ext cx="161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1.0.1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A 33 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4"/>
          <a:stretch/>
        </p:blipFill>
        <p:spPr>
          <a:xfrm>
            <a:off x="4503600" y="2792520"/>
            <a:ext cx="1063800" cy="76356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3137040" y="1320840"/>
            <a:ext cx="2971800" cy="35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35360" y="1384200"/>
            <a:ext cx="1397160" cy="266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ARP-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21280" y="139860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FF FF FF FF FF 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780000" y="1087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ame MAC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2945880" y="1701720"/>
            <a:ext cx="34419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419040" y="419040"/>
            <a:ext cx="1473120" cy="1054080"/>
          </a:xfrm>
          <a:prstGeom prst="wedgeRoundRectCallout">
            <a:avLst>
              <a:gd name="adj1" fmla="val -68861"/>
              <a:gd name="adj2" fmla="val 2786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0280" y="515880"/>
            <a:ext cx="14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- Coucou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e suis 10.2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e che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288920" y="2374920"/>
            <a:ext cx="1473480" cy="1054080"/>
          </a:xfrm>
          <a:prstGeom prst="wedgeRoundRectCallout">
            <a:avLst>
              <a:gd name="adj1" fmla="val 183726"/>
              <a:gd name="adj2" fmla="val 3704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11960" y="2421000"/>
            <a:ext cx="14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- Coucou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e suis 10.1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 ’ha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0 00 0C 2A 32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68120" y="668160"/>
            <a:ext cx="1959120" cy="459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NOTEZ LA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DE MASQU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3086280" y="634680"/>
            <a:ext cx="336528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6502320" y="1130400"/>
            <a:ext cx="812880" cy="1460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32680" y="335772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0.1.254.254/</a:t>
            </a: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0000 0C 2B BB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692440" y="1536840"/>
            <a:ext cx="368280" cy="34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91120" y="2959200"/>
            <a:ext cx="368280" cy="34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5"/>
          <a:stretch/>
        </p:blipFill>
        <p:spPr>
          <a:xfrm>
            <a:off x="4889520" y="4292640"/>
            <a:ext cx="17049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 flipV="1">
            <a:off x="2197080" y="1968480"/>
            <a:ext cx="1295280" cy="7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38480" y="1968480"/>
            <a:ext cx="1244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5214960" y="213192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3348000" y="159876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3"/>
          <a:stretch/>
        </p:blipFill>
        <p:spPr>
          <a:xfrm>
            <a:off x="3243240" y="1087560"/>
            <a:ext cx="1584360" cy="60624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4"/>
          <a:stretch/>
        </p:blipFill>
        <p:spPr>
          <a:xfrm>
            <a:off x="5888160" y="1681200"/>
            <a:ext cx="695160" cy="148752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5"/>
          <a:stretch/>
        </p:blipFill>
        <p:spPr>
          <a:xfrm>
            <a:off x="1519200" y="255096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5907240" y="230040"/>
            <a:ext cx="2084400" cy="11890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Table de routa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9.0.0.0 - Connecté - 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7.0.0.0 - Connecté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8.0.0.0 - Connecté -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10.0.0.0 - 8.0.0.1 -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5790960" y="1434960"/>
            <a:ext cx="215640" cy="736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45480" y="144936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222640" y="2565360"/>
            <a:ext cx="3225600" cy="29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96720" y="241452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3203640" y="50472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4631040" y="10238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7"/>
          <a:stretch/>
        </p:blipFill>
        <p:spPr>
          <a:xfrm>
            <a:off x="6467400" y="238428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3389040" y="20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40560" y="206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74760" y="3170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9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70120" y="18018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490560" y="2068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74360" y="29829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61680" y="2712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56760" y="2840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14440" y="2116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049280" y="1735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26840" y="18493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7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47520" y="484200"/>
            <a:ext cx="1843560" cy="10065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Table de routa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0.0.0.0 - Connecté - 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7.0.0.0 - Connecté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Arial Black"/>
              </a:rPr>
              <a:t>9.0.0.0 - 7.0.0.1 - 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40160" y="1523880"/>
            <a:ext cx="863280" cy="317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645000" y="1181160"/>
            <a:ext cx="2832120" cy="96516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119000">
            <a:off x="4861800" y="142992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120760" y="1523880"/>
            <a:ext cx="4267440" cy="1625760"/>
          </a:xfrm>
          <a:custGeom>
            <a:avLst/>
            <a:gdLst/>
            <a:ahLst/>
            <a:rect l="l" t="t" r="r" b="b"/>
            <a:pathLst>
              <a:path w="2688" h="1024">
                <a:moveTo>
                  <a:pt x="2688" y="792"/>
                </a:moveTo>
                <a:lnTo>
                  <a:pt x="0" y="1024"/>
                </a:lnTo>
                <a:lnTo>
                  <a:pt x="0" y="584"/>
                </a:lnTo>
                <a:lnTo>
                  <a:pt x="1080" y="0"/>
                </a:lnTo>
              </a:path>
            </a:pathLst>
          </a:custGeom>
          <a:noFill/>
          <a:ln w="381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21258600">
            <a:off x="3400200" y="30175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CHO_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751040" y="2370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241200" y="2451240"/>
            <a:ext cx="711360" cy="2463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1913040" y="139536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1316160" y="677880"/>
            <a:ext cx="695160" cy="148752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727200" y="936720"/>
            <a:ext cx="653760" cy="81756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2629080" y="1663560"/>
            <a:ext cx="186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4"/>
          <a:stretch/>
        </p:blipFill>
        <p:spPr>
          <a:xfrm>
            <a:off x="4376880" y="138276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5079960" y="1663560"/>
            <a:ext cx="186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6827760" y="138276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6"/>
          <a:stretch/>
        </p:blipFill>
        <p:spPr>
          <a:xfrm>
            <a:off x="7513560" y="855720"/>
            <a:ext cx="695520" cy="14875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7"/>
          <a:stretch/>
        </p:blipFill>
        <p:spPr>
          <a:xfrm>
            <a:off x="8105760" y="92376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2286000" y="1905120"/>
            <a:ext cx="0" cy="3911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75040" y="1905120"/>
            <a:ext cx="0" cy="3911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226280" y="1905120"/>
            <a:ext cx="0" cy="3911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496360" y="1905120"/>
            <a:ext cx="0" cy="3911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03320" y="1905120"/>
            <a:ext cx="0" cy="3911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003320" y="2425680"/>
            <a:ext cx="128268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1002960" y="2692440"/>
            <a:ext cx="1282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003320" y="3009960"/>
            <a:ext cx="377172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002960" y="3289320"/>
            <a:ext cx="3771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03320" y="3657600"/>
            <a:ext cx="621036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002960" y="4000680"/>
            <a:ext cx="621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1003320" y="4343040"/>
            <a:ext cx="7467480" cy="12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1002960" y="4686120"/>
            <a:ext cx="746748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43800" y="22176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72680" y="22176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362320" y="2451240"/>
            <a:ext cx="253800" cy="228600"/>
          </a:xfrm>
          <a:custGeom>
            <a:avLst/>
            <a:gdLst/>
            <a:ahLst/>
            <a:rect l="l" t="t" r="r" b="b"/>
            <a:pathLst>
              <a:path w="160" h="144">
                <a:moveTo>
                  <a:pt x="160" y="0"/>
                </a:moveTo>
                <a:lnTo>
                  <a:pt x="160" y="144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23760" y="2471760"/>
            <a:ext cx="15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imeOut de 9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43800" y="278928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09240" y="278928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12480" y="282744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02120" y="3060720"/>
            <a:ext cx="254160" cy="228600"/>
          </a:xfrm>
          <a:custGeom>
            <a:avLst/>
            <a:gdLst/>
            <a:ahLst/>
            <a:rect l="l" t="t" r="r" b="b"/>
            <a:pathLst>
              <a:path w="160" h="144">
                <a:moveTo>
                  <a:pt x="160" y="0"/>
                </a:moveTo>
                <a:lnTo>
                  <a:pt x="160" y="144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94280" y="3056040"/>
            <a:ext cx="20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CMP_TimeOut de 10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43800" y="342432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09240" y="342432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574600" y="342432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251120" y="353844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340760" y="3772080"/>
            <a:ext cx="253800" cy="228600"/>
          </a:xfrm>
          <a:custGeom>
            <a:avLst/>
            <a:gdLst/>
            <a:ahLst/>
            <a:rect l="l" t="t" r="r" b="b"/>
            <a:pathLst>
              <a:path w="160" h="144">
                <a:moveTo>
                  <a:pt x="160" y="0"/>
                </a:moveTo>
                <a:lnTo>
                  <a:pt x="160" y="144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57560" y="3780000"/>
            <a:ext cx="20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CMP_TimeOut de 11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43800" y="412272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09240" y="412272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4600" y="412272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63240" y="446580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CMP_TimeOut de 12.0.0.1 (12.0.0.1 = adresse du trace rou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454160" y="412272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432280" y="42372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TL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521560" y="4470480"/>
            <a:ext cx="254160" cy="228600"/>
          </a:xfrm>
          <a:custGeom>
            <a:avLst/>
            <a:gdLst/>
            <a:ahLst/>
            <a:rect l="l" t="t" r="r" b="b"/>
            <a:pathLst>
              <a:path w="160" h="144">
                <a:moveTo>
                  <a:pt x="160" y="0"/>
                </a:moveTo>
                <a:lnTo>
                  <a:pt x="160" y="144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291680" y="4143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9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81600" y="13921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10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94320" y="1366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11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7600" y="515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12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75068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6340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65280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922880" y="1087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60136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6520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490880" y="13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0560" y="2522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9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9840" y="3132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10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840" y="385596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11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49840" y="454176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177920" y="5176800"/>
            <a:ext cx="193644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ffichage du trace r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659880" y="4914720"/>
            <a:ext cx="482760" cy="43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71880" y="355680"/>
            <a:ext cx="2247840" cy="520560"/>
          </a:xfrm>
          <a:prstGeom prst="wedgeEllipseCallout">
            <a:avLst>
              <a:gd name="adj1" fmla="val -93430"/>
              <a:gd name="adj2" fmla="val 945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96240" y="47772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ace route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09680" y="2921040"/>
            <a:ext cx="13968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09680" y="3581280"/>
            <a:ext cx="13968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09680" y="4280040"/>
            <a:ext cx="139680" cy="12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99080" y="4280040"/>
            <a:ext cx="139680" cy="12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149960" y="4280040"/>
            <a:ext cx="139680" cy="12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699080" y="3568680"/>
            <a:ext cx="13968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3475080" y="17510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2"/>
          <a:stretch/>
        </p:blipFill>
        <p:spPr>
          <a:xfrm>
            <a:off x="1316160" y="677880"/>
            <a:ext cx="695160" cy="207180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3"/>
          <a:stretch/>
        </p:blipFill>
        <p:spPr>
          <a:xfrm>
            <a:off x="727200" y="936720"/>
            <a:ext cx="653760" cy="81756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2641680" y="1359000"/>
            <a:ext cx="186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1925640" y="109044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4165560" y="2082960"/>
            <a:ext cx="1917720" cy="69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5"/>
          <a:stretch/>
        </p:blipFill>
        <p:spPr>
          <a:xfrm>
            <a:off x="4414680" y="10526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087880" y="614520"/>
            <a:ext cx="695520" cy="14871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5692680" y="78408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91680" y="4143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9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081600" y="11383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10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99320" y="3762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12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5068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6340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351200" y="29923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547960" y="8841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60136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27040" y="13539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8"/>
          <a:stretch/>
        </p:blipFill>
        <p:spPr>
          <a:xfrm>
            <a:off x="5951520" y="255096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9"/>
          <a:stretch/>
        </p:blipFill>
        <p:spPr>
          <a:xfrm>
            <a:off x="6624720" y="2532240"/>
            <a:ext cx="695160" cy="148716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10"/>
          <a:stretch/>
        </p:blipFill>
        <p:spPr>
          <a:xfrm>
            <a:off x="7229520" y="270180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3642840" y="2233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42640" y="7603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81080" y="2057400"/>
            <a:ext cx="156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00000" y="62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03640" y="455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77760" y="168912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311560" y="168912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73600" y="2616120"/>
            <a:ext cx="0" cy="248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26160" y="1625760"/>
            <a:ext cx="0" cy="347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8176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90720" y="3060720"/>
            <a:ext cx="2882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332080" y="281448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18600" y="2903400"/>
            <a:ext cx="12294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2.0.0.0 via 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48040" y="3162240"/>
            <a:ext cx="419040" cy="241200"/>
          </a:xfrm>
          <a:custGeom>
            <a:avLst/>
            <a:gdLst/>
            <a:ahLst/>
            <a:rect l="l" t="t" r="r" b="b"/>
            <a:pathLst>
              <a:path w="136" h="152">
                <a:moveTo>
                  <a:pt x="136" y="0"/>
                </a:moveTo>
                <a:lnTo>
                  <a:pt x="136" y="152"/>
                </a:lnTo>
                <a:lnTo>
                  <a:pt x="0" y="15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324160" y="3403440"/>
            <a:ext cx="15494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332080" y="3170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86200" y="3162240"/>
            <a:ext cx="723960" cy="558720"/>
          </a:xfrm>
          <a:custGeom>
            <a:avLst/>
            <a:gdLst/>
            <a:ahLst/>
            <a:rect l="l" t="t" r="r" b="b"/>
            <a:pathLst>
              <a:path w="136" h="152">
                <a:moveTo>
                  <a:pt x="136" y="0"/>
                </a:moveTo>
                <a:lnTo>
                  <a:pt x="136" y="152"/>
                </a:lnTo>
                <a:lnTo>
                  <a:pt x="0" y="15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990720" y="3708000"/>
            <a:ext cx="2882880" cy="12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54480" y="348768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CMP_Redirect vers 9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324160" y="4064040"/>
            <a:ext cx="2489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801880" y="38433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51360" y="4394160"/>
            <a:ext cx="11048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46680" y="411012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60440" y="1143000"/>
            <a:ext cx="2576520" cy="2235240"/>
          </a:xfrm>
          <a:custGeom>
            <a:avLst/>
            <a:gdLst/>
            <a:ahLst/>
            <a:rect l="l" t="t" r="r" b="b"/>
            <a:pathLst>
              <a:path w="535" h="1424">
                <a:moveTo>
                  <a:pt x="415" y="1424"/>
                </a:moveTo>
                <a:cubicBezTo>
                  <a:pt x="267" y="1374"/>
                  <a:pt x="119" y="1325"/>
                  <a:pt x="63" y="1120"/>
                </a:cubicBezTo>
                <a:cubicBezTo>
                  <a:pt x="7" y="915"/>
                  <a:pt x="0" y="379"/>
                  <a:pt x="79" y="192"/>
                </a:cubicBezTo>
                <a:cubicBezTo>
                  <a:pt x="158" y="5"/>
                  <a:pt x="346" y="2"/>
                  <a:pt x="535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3475080" y="17510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1316160" y="677880"/>
            <a:ext cx="695160" cy="207180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3"/>
          <a:stretch/>
        </p:blipFill>
        <p:spPr>
          <a:xfrm>
            <a:off x="727200" y="936720"/>
            <a:ext cx="653760" cy="81756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641680" y="1359000"/>
            <a:ext cx="186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4"/>
          <a:stretch/>
        </p:blipFill>
        <p:spPr>
          <a:xfrm>
            <a:off x="1925640" y="109044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4165560" y="2082960"/>
            <a:ext cx="1917720" cy="69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5"/>
          <a:stretch/>
        </p:blipFill>
        <p:spPr>
          <a:xfrm>
            <a:off x="4414680" y="10526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6"/>
          <a:stretch/>
        </p:blipFill>
        <p:spPr>
          <a:xfrm>
            <a:off x="5087880" y="614520"/>
            <a:ext cx="695520" cy="148716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/>
          <p:cNvPicPr/>
          <p:nvPr/>
        </p:nvPicPr>
        <p:blipFill>
          <a:blip r:embed="rId7"/>
          <a:stretch/>
        </p:blipFill>
        <p:spPr>
          <a:xfrm>
            <a:off x="5692680" y="78408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1291680" y="4143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9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081600" y="11383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10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99320" y="3762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12.0.0.0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75068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63400" y="1405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51200" y="29923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547960" y="8841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626920" y="11253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7040" y="13539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8"/>
          <a:stretch/>
        </p:blipFill>
        <p:spPr>
          <a:xfrm>
            <a:off x="5951520" y="255096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9"/>
          <a:stretch/>
        </p:blipFill>
        <p:spPr>
          <a:xfrm>
            <a:off x="6624720" y="2532240"/>
            <a:ext cx="695160" cy="1487160"/>
          </a:xfrm>
          <a:prstGeom prst="rect">
            <a:avLst/>
          </a:prstGeom>
          <a:ln w="0">
            <a:noFill/>
          </a:ln>
        </p:spPr>
      </p:pic>
      <p:pic>
        <p:nvPicPr>
          <p:cNvPr id="1094" name="" descr=""/>
          <p:cNvPicPr/>
          <p:nvPr/>
        </p:nvPicPr>
        <p:blipFill>
          <a:blip r:embed="rId10"/>
          <a:stretch/>
        </p:blipFill>
        <p:spPr>
          <a:xfrm>
            <a:off x="7229520" y="270180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642840" y="2233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042640" y="7603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81080" y="2057400"/>
            <a:ext cx="156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00000" y="62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903640" y="455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77760" y="168912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11560" y="168912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73600" y="2616120"/>
            <a:ext cx="0" cy="248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826160" y="1625760"/>
            <a:ext cx="0" cy="347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98176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90720" y="3060720"/>
            <a:ext cx="2882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32080" y="281448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18600" y="2903400"/>
            <a:ext cx="12294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2.0.0.0 via 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48040" y="3162240"/>
            <a:ext cx="419040" cy="241200"/>
          </a:xfrm>
          <a:custGeom>
            <a:avLst/>
            <a:gdLst/>
            <a:ahLst/>
            <a:rect l="l" t="t" r="r" b="b"/>
            <a:pathLst>
              <a:path w="136" h="152">
                <a:moveTo>
                  <a:pt x="136" y="0"/>
                </a:moveTo>
                <a:lnTo>
                  <a:pt x="136" y="152"/>
                </a:lnTo>
                <a:lnTo>
                  <a:pt x="0" y="15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324160" y="3403440"/>
            <a:ext cx="15494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32080" y="3170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98600" y="3746520"/>
            <a:ext cx="24894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776320" y="352584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26160" y="4076640"/>
            <a:ext cx="11048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846680" y="411012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PDest = 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65360" y="1511280"/>
            <a:ext cx="1015920" cy="36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408400" y="1092240"/>
            <a:ext cx="1446120" cy="2235240"/>
          </a:xfrm>
          <a:custGeom>
            <a:avLst/>
            <a:gdLst/>
            <a:ahLst/>
            <a:rect l="l" t="t" r="r" b="b"/>
            <a:pathLst>
              <a:path w="911" h="1408">
                <a:moveTo>
                  <a:pt x="899" y="1408"/>
                </a:moveTo>
                <a:cubicBezTo>
                  <a:pt x="905" y="1282"/>
                  <a:pt x="911" y="1156"/>
                  <a:pt x="859" y="1008"/>
                </a:cubicBezTo>
                <a:cubicBezTo>
                  <a:pt x="807" y="860"/>
                  <a:pt x="728" y="659"/>
                  <a:pt x="587" y="520"/>
                </a:cubicBezTo>
                <a:cubicBezTo>
                  <a:pt x="446" y="381"/>
                  <a:pt x="22" y="263"/>
                  <a:pt x="11" y="176"/>
                </a:cubicBezTo>
                <a:cubicBezTo>
                  <a:pt x="0" y="89"/>
                  <a:pt x="261" y="44"/>
                  <a:pt x="523" y="0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54880" y="149400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Back to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1247760" y="69516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3162240" y="927000"/>
            <a:ext cx="234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2446200" y="55728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5392800" y="65880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6091200" y="639720"/>
            <a:ext cx="695520" cy="14875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8004240" y="46656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2614320" y="2649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433520" y="392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177040" y="163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6"/>
          <a:stretch/>
        </p:blipFill>
        <p:spPr>
          <a:xfrm>
            <a:off x="1862280" y="411120"/>
            <a:ext cx="695160" cy="148752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7"/>
          <a:stretch/>
        </p:blipFill>
        <p:spPr>
          <a:xfrm>
            <a:off x="6649920" y="135720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3619440" y="2489040"/>
            <a:ext cx="345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8"/>
          <a:stretch/>
        </p:blipFill>
        <p:spPr>
          <a:xfrm>
            <a:off x="7335720" y="411120"/>
            <a:ext cx="695520" cy="14875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9"/>
          <a:stretch/>
        </p:blipFill>
        <p:spPr>
          <a:xfrm>
            <a:off x="3233880" y="1687680"/>
            <a:ext cx="809640" cy="580680"/>
          </a:xfrm>
          <a:prstGeom prst="rect">
            <a:avLst/>
          </a:prstGeom>
          <a:ln w="0">
            <a:noFill/>
          </a:ln>
        </p:spPr>
      </p:pic>
      <p:sp>
        <p:nvSpPr>
          <p:cNvPr id="1132" name=""/>
          <p:cNvSpPr/>
          <p:nvPr/>
        </p:nvSpPr>
        <p:spPr>
          <a:xfrm>
            <a:off x="2527200" y="14097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527200" y="199404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074000" y="1866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619440" y="21844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497200" y="3668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50880" y="14079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79880" y="1090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43280" y="520560"/>
            <a:ext cx="6083280" cy="952560"/>
          </a:xfrm>
          <a:custGeom>
            <a:avLst/>
            <a:gdLst/>
            <a:ahLst/>
            <a:rect l="l" t="t" r="r" b="b"/>
            <a:pathLst>
              <a:path w="3832" h="600">
                <a:moveTo>
                  <a:pt x="0" y="152"/>
                </a:moveTo>
                <a:lnTo>
                  <a:pt x="2960" y="152"/>
                </a:lnTo>
                <a:lnTo>
                  <a:pt x="2960" y="600"/>
                </a:lnTo>
                <a:lnTo>
                  <a:pt x="3472" y="600"/>
                </a:lnTo>
                <a:lnTo>
                  <a:pt x="3472" y="0"/>
                </a:lnTo>
                <a:lnTo>
                  <a:pt x="38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765440" y="1168560"/>
            <a:ext cx="6311880" cy="1206360"/>
          </a:xfrm>
          <a:custGeom>
            <a:avLst/>
            <a:gdLst/>
            <a:ahLst/>
            <a:rect l="l" t="t" r="r" b="b"/>
            <a:pathLst>
              <a:path w="3976" h="760">
                <a:moveTo>
                  <a:pt x="3976" y="0"/>
                </a:moveTo>
                <a:lnTo>
                  <a:pt x="3976" y="352"/>
                </a:lnTo>
                <a:lnTo>
                  <a:pt x="3272" y="352"/>
                </a:lnTo>
                <a:lnTo>
                  <a:pt x="3272" y="760"/>
                </a:lnTo>
                <a:lnTo>
                  <a:pt x="1256" y="760"/>
                </a:lnTo>
                <a:lnTo>
                  <a:pt x="1256" y="408"/>
                </a:lnTo>
                <a:lnTo>
                  <a:pt x="0" y="40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946680" y="49356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A ver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52760" y="21067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B ver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308240" y="142236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857680" y="2120760"/>
            <a:ext cx="0" cy="433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765760" y="2616120"/>
            <a:ext cx="0" cy="3835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445600" y="142236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619440" y="260352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12160" y="2616120"/>
            <a:ext cx="0" cy="3835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08240" y="245124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276560" y="22050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quest(IP_R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1308240" y="281952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65040" y="256068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ply(MAC_R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08240" y="318780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418400" y="294156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MP_Echo(IP_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882880" y="3327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28440" y="308124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MP_Echo(IP_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721480" y="325908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quest(IP_R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765760" y="3556080"/>
            <a:ext cx="134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5765760" y="3898800"/>
            <a:ext cx="134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722920" y="366552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ply(MAC_R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765760" y="4178160"/>
            <a:ext cx="134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787360" y="39322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MP_Echo(IP_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112160" y="435600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119000" y="40971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quest(IP_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7112160" y="46101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45640" y="4402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ply(MAC_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12160" y="488952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095240" y="465624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MP_Echo(IP_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112160" y="523224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093080" y="4998960"/>
            <a:ext cx="190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MP_Echo_Reply(IP_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619440" y="5423040"/>
            <a:ext cx="34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67480" y="5176800"/>
            <a:ext cx="190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MP_Echo_Reply(IP_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1308240" y="5613480"/>
            <a:ext cx="231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556640" y="53802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quest(IP_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308240" y="5918040"/>
            <a:ext cx="231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70320" y="568476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P_Reply(MAC_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1308240" y="6235560"/>
            <a:ext cx="231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467000" y="6002280"/>
            <a:ext cx="190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MP_Echo_Reply(IP_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324480" y="838080"/>
            <a:ext cx="1067040" cy="167652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1523880"/>
            <a:ext cx="762120" cy="12193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9480"/>
            <a:ext cx="1066680" cy="533520"/>
          </a:xfrm>
          <a:prstGeom prst="rect">
            <a:avLst/>
          </a:prstGeom>
          <a:gradFill rotWithShape="0">
            <a:gsLst>
              <a:gs pos="0">
                <a:srgbClr val="81a0fe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nt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609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486400" y="1143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25142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35520" y="1523880"/>
            <a:ext cx="72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655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oct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nt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max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609480"/>
            <a:ext cx="11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20 oct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t 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83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5720" y="1371600"/>
            <a:ext cx="110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moy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28 ou 2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oct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7160" y="4365720"/>
            <a:ext cx="8640720" cy="63324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3920" y="3726000"/>
            <a:ext cx="8647200" cy="623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7160" y="3051000"/>
            <a:ext cx="8640720" cy="662040"/>
          </a:xfrm>
          <a:prstGeom prst="rect">
            <a:avLst/>
          </a:prstGeom>
          <a:gradFill rotWithShape="0">
            <a:gsLst>
              <a:gs pos="0">
                <a:srgbClr val="950000"/>
              </a:gs>
              <a:gs pos="50000">
                <a:srgbClr val="ff0000"/>
              </a:gs>
              <a:gs pos="100000">
                <a:srgbClr val="9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6680" y="2430360"/>
            <a:ext cx="4294440" cy="6145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98680" y="2422440"/>
            <a:ext cx="2173320" cy="6238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3920" y="2421000"/>
            <a:ext cx="2170080" cy="61416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4240" y="1765440"/>
            <a:ext cx="3486240" cy="6523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68760" y="1763640"/>
            <a:ext cx="824040" cy="65736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160" y="1765440"/>
            <a:ext cx="4335480" cy="642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0200" y="1143000"/>
            <a:ext cx="1082880" cy="6094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8760" y="1144440"/>
            <a:ext cx="4307040" cy="6145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05160" y="1144440"/>
            <a:ext cx="2170080" cy="6145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143000"/>
            <a:ext cx="1108080" cy="6094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200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164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7164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8128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5272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1368360"/>
            <a:ext cx="6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4520" y="1376280"/>
            <a:ext cx="2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30200" y="1438200"/>
            <a:ext cx="1800" cy="32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3080" y="1438200"/>
            <a:ext cx="1440" cy="32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2272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092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763440" y="1585800"/>
            <a:ext cx="11160" cy="176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056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056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68760" y="1438200"/>
            <a:ext cx="1800" cy="32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4200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164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8308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1585800"/>
            <a:ext cx="12960" cy="176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2128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9128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6272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0920" y="1438200"/>
            <a:ext cx="1800" cy="324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002000" y="1600200"/>
            <a:ext cx="1116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6912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056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1056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876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50200" y="160020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21640" y="1587600"/>
            <a:ext cx="0" cy="17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7760" y="187632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dentific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37600" y="2622600"/>
            <a:ext cx="29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40080" y="1322280"/>
            <a:ext cx="134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Longueur tot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04800" y="136512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00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00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200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200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200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200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3020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020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3020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020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164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64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164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7164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7164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7164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144520" y="2251080"/>
            <a:ext cx="126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4308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4308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4308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3080" y="2087640"/>
            <a:ext cx="1440" cy="325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13080" y="2738520"/>
            <a:ext cx="1440" cy="323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3390840"/>
            <a:ext cx="1440" cy="324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3080" y="4040280"/>
            <a:ext cx="1440" cy="325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8128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8128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128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8128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5272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5272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272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5272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2272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272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2272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2272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9092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092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763440" y="2251080"/>
            <a:ext cx="1116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63800" y="2886120"/>
            <a:ext cx="0" cy="176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6236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6236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056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056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056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056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0056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0056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056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056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68760" y="2087640"/>
            <a:ext cx="1800" cy="325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8760" y="2738520"/>
            <a:ext cx="1800" cy="323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68760" y="3390840"/>
            <a:ext cx="1800" cy="324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68760" y="4040280"/>
            <a:ext cx="1800" cy="325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4200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4200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200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1164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164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1164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1164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8308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8308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8308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5308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308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5308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308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2128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2128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128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2128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9128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9128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9128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9128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6272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6272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6272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6272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30920" y="2087640"/>
            <a:ext cx="1800" cy="325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30920" y="2738520"/>
            <a:ext cx="1800" cy="323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30920" y="3390840"/>
            <a:ext cx="1800" cy="324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30920" y="4040280"/>
            <a:ext cx="1800" cy="325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0092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0092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0092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092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6912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6912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6912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6912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056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056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056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056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1056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1056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1056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1056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7876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7876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876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876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50200" y="225108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0200" y="290052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50200" y="3552840"/>
            <a:ext cx="180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50200" y="4202280"/>
            <a:ext cx="180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20200" y="22510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20200" y="29005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20200" y="355284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620200" y="420228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87360" y="264168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Protoc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2480" y="1893960"/>
            <a:ext cx="43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Fla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52960" y="1917720"/>
            <a:ext cx="177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Position du fra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01800" y="257508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heck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98920" y="3273480"/>
            <a:ext cx="200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Adresse sourc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32680" y="3922560"/>
            <a:ext cx="24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Adresse destinatair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00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200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3020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164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7164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308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13080" y="4691160"/>
            <a:ext cx="1440" cy="323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8128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5272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2272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092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6236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056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0056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68760" y="4691160"/>
            <a:ext cx="1800" cy="323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200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8308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5308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2128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9128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6272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0920" y="4691160"/>
            <a:ext cx="1800" cy="323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0092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6912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056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1056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7876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50200" y="4853160"/>
            <a:ext cx="180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20200" y="485316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5200" y="4573440"/>
            <a:ext cx="166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Options éventuel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2464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8954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358128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191120"/>
            <a:ext cx="1440" cy="16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849920"/>
            <a:ext cx="1440" cy="16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0480" y="1600200"/>
            <a:ext cx="1440" cy="16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9240" y="933480"/>
            <a:ext cx="865800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73960" y="689040"/>
            <a:ext cx="137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Mots de 4 oct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494240" y="568440"/>
            <a:ext cx="2900160" cy="62064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Hos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rti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69960" y="576360"/>
            <a:ext cx="2906640" cy="623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Ne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rtie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797200" y="1467000"/>
          <a:ext cx="44928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7200" y="1467000"/>
                    <a:ext cx="44928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2446200" y="40370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3719520" y="1330200"/>
            <a:ext cx="1704960" cy="1251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1285920" y="436572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1535040" y="1479600"/>
            <a:ext cx="739800" cy="5698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5529240" y="1481040"/>
            <a:ext cx="1584360" cy="606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1836720" y="3344760"/>
            <a:ext cx="695520" cy="1487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5672160" y="398628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0"/>
          <a:stretch/>
        </p:blipFill>
        <p:spPr>
          <a:xfrm>
            <a:off x="6357960" y="3510000"/>
            <a:ext cx="695160" cy="1487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137040" y="4317840"/>
            <a:ext cx="26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72520" y="4065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Liaison Lo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7520" y="2819520"/>
            <a:ext cx="2158920" cy="25905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70280" y="2579760"/>
            <a:ext cx="11469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@Réseau I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86280" y="3949560"/>
            <a:ext cx="2717640" cy="749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53160" y="3672000"/>
            <a:ext cx="11469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@Réseau I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1"/>
          <a:stretch/>
        </p:blipFill>
        <p:spPr>
          <a:xfrm>
            <a:off x="6937200" y="422604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324480" y="2832120"/>
            <a:ext cx="2108160" cy="2590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9000" y="2592360"/>
            <a:ext cx="11469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@Réseau I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13040" y="5237280"/>
            <a:ext cx="188604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3 réseaux phys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diffé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2234880" y="4597200"/>
            <a:ext cx="1346040" cy="634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936960" y="4343040"/>
            <a:ext cx="673200" cy="8888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740560" y="4597560"/>
            <a:ext cx="888840" cy="622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160" y="2798640"/>
            <a:ext cx="9428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Ro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857320" y="3048120"/>
            <a:ext cx="1269720" cy="1041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94440" y="3060720"/>
            <a:ext cx="838080" cy="1015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0240" y="3446640"/>
            <a:ext cx="114372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@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82680" y="3720960"/>
            <a:ext cx="584280" cy="851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82680" y="3733920"/>
            <a:ext cx="1219320" cy="583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08240" y="3733920"/>
            <a:ext cx="1854000" cy="520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07320" y="3205080"/>
            <a:ext cx="114372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@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702400" y="3505320"/>
            <a:ext cx="1473120" cy="761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413400" y="3505320"/>
            <a:ext cx="749520" cy="761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959520" y="3505320"/>
            <a:ext cx="216000" cy="95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480640" y="4116240"/>
            <a:ext cx="109368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fait partie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-&gt; Envoi à 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42280" y="4738680"/>
            <a:ext cx="10875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fait par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de 12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-&gt; Envoi à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728640"/>
            <a:ext cx="1839960" cy="407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6480" y="8017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CLAS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9600" y="728640"/>
            <a:ext cx="1839960" cy="407880"/>
          </a:xfrm>
          <a:prstGeom prst="rect">
            <a:avLst/>
          </a:prstGeom>
          <a:gradFill rotWithShape="0">
            <a:gsLst>
              <a:gs pos="0">
                <a:srgbClr val="00bd00"/>
              </a:gs>
              <a:gs pos="50000">
                <a:srgbClr val="00ff00"/>
              </a:gs>
              <a:gs pos="100000">
                <a:srgbClr val="00b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28320" y="73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723960"/>
            <a:ext cx="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86560" y="7300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82960" y="730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27240" y="1185840"/>
            <a:ext cx="1839960" cy="407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8360" y="125892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CLAS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81240" y="1185840"/>
            <a:ext cx="1839960" cy="407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9600" y="1185840"/>
            <a:ext cx="1839960" cy="407880"/>
          </a:xfrm>
          <a:prstGeom prst="rect">
            <a:avLst/>
          </a:prstGeom>
          <a:gradFill rotWithShape="0">
            <a:gsLst>
              <a:gs pos="0">
                <a:srgbClr val="00bd00"/>
              </a:gs>
              <a:gs pos="50000">
                <a:srgbClr val="00ff00"/>
              </a:gs>
              <a:gs pos="100000">
                <a:srgbClr val="00b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40920" y="1187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36840" y="1181160"/>
            <a:ext cx="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99160" y="1187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39040" y="1187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70360" y="11872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33240" y="1187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1181160"/>
            <a:ext cx="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35600" y="1185840"/>
            <a:ext cx="1839960" cy="407880"/>
          </a:xfrm>
          <a:prstGeom prst="rect">
            <a:avLst/>
          </a:prstGeom>
          <a:gradFill rotWithShape="0">
            <a:gsLst>
              <a:gs pos="0">
                <a:srgbClr val="00bd00"/>
              </a:gs>
              <a:gs pos="50000">
                <a:srgbClr val="00ff00"/>
              </a:gs>
              <a:gs pos="100000">
                <a:srgbClr val="00b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16000" y="11872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27240" y="1643040"/>
            <a:ext cx="1839960" cy="407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1600" y="1716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CLASSE C</a:t>
            </a: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81240" y="1643040"/>
            <a:ext cx="1839960" cy="407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89600" y="1643040"/>
            <a:ext cx="1839960" cy="407880"/>
          </a:xfrm>
          <a:prstGeom prst="rect">
            <a:avLst/>
          </a:prstGeom>
          <a:gradFill rotWithShape="0">
            <a:gsLst>
              <a:gs pos="0">
                <a:srgbClr val="00bd00"/>
              </a:gs>
              <a:gs pos="50000">
                <a:srgbClr val="00ff00"/>
              </a:gs>
              <a:gs pos="100000">
                <a:srgbClr val="00b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40920" y="1644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36840" y="1638360"/>
            <a:ext cx="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91480" y="16444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39040" y="16444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470360" y="1644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33240" y="1644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1638360"/>
            <a:ext cx="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37800" y="1644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1638360"/>
            <a:ext cx="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81240" y="728640"/>
            <a:ext cx="1839960" cy="407880"/>
          </a:xfrm>
          <a:prstGeom prst="rect">
            <a:avLst/>
          </a:prstGeom>
          <a:gradFill rotWithShape="0">
            <a:gsLst>
              <a:gs pos="0">
                <a:srgbClr val="00bd00"/>
              </a:gs>
              <a:gs pos="50000">
                <a:srgbClr val="00ff00"/>
              </a:gs>
              <a:gs pos="100000">
                <a:srgbClr val="00b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62000" y="730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35600" y="728640"/>
            <a:ext cx="1839960" cy="407880"/>
          </a:xfrm>
          <a:prstGeom prst="rect">
            <a:avLst/>
          </a:prstGeom>
          <a:gradFill rotWithShape="0">
            <a:gsLst>
              <a:gs pos="0">
                <a:srgbClr val="00bd00"/>
              </a:gs>
              <a:gs pos="50000">
                <a:srgbClr val="00ff00"/>
              </a:gs>
              <a:gs pos="100000">
                <a:srgbClr val="00b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16000" y="730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35600" y="1643040"/>
            <a:ext cx="1839960" cy="407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93400" y="16444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633680" y="31100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73040" y="343836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1023840" y="2417760"/>
            <a:ext cx="695520" cy="14875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761080" y="291924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7039080" y="318456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6446880" y="2417760"/>
            <a:ext cx="695160" cy="14875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3868560" y="510372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6827760" y="500220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108160" y="3594240"/>
            <a:ext cx="1866960" cy="165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95680" y="3365640"/>
            <a:ext cx="1447920" cy="18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559040" y="5283360"/>
            <a:ext cx="2361960" cy="16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2629080" y="4393800"/>
            <a:ext cx="121896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699080" y="3873240"/>
            <a:ext cx="977760" cy="124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749840" y="5423040"/>
            <a:ext cx="1803240" cy="1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5245200"/>
            <a:ext cx="1028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0360" y="26337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87400" y="278604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69240" y="4716360"/>
            <a:ext cx="4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X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9800" y="40784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2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36920" y="38242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86160" y="245268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Rés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67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67080" y="5600880"/>
            <a:ext cx="12960" cy="723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80560" y="545004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82.20.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6440" y="2668680"/>
            <a:ext cx="73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Rés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2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5320" y="3306600"/>
            <a:ext cx="1572120" cy="946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able rout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2.0.0.0 via 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67.10.0.0 via 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0.0.0.0 via 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4254480"/>
            <a:ext cx="75960" cy="876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83760" y="5792760"/>
            <a:ext cx="241812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éseau 182.20.0.0 connaît pa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-&gt; Route par défaut ! -&gt; 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78680" y="5362560"/>
            <a:ext cx="4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33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98400" y="490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28600" y="494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65680" y="1170000"/>
            <a:ext cx="125964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255.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fait partie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-&gt; Envoi à 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719520" y="709560"/>
            <a:ext cx="809640" cy="581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6648480" y="207972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6056280" y="500040"/>
            <a:ext cx="695520" cy="2681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442800" y="74772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 flipH="1">
            <a:off x="1108080" y="1028880"/>
            <a:ext cx="2641680" cy="5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628640" y="1155240"/>
            <a:ext cx="1752840" cy="25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98800" y="4237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 Black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46320" y="2744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22360" y="16668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Rés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 Black"/>
              </a:rPr>
              <a:t>167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8720" y="1244520"/>
            <a:ext cx="12600" cy="723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1120" y="1935000"/>
            <a:ext cx="157212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Table rout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67.10.0.0 via 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422600" y="977760"/>
            <a:ext cx="1676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6648480" y="1076400"/>
            <a:ext cx="654120" cy="8175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646320" y="17035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448160" y="1155240"/>
            <a:ext cx="1752480" cy="25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04680" y="1246320"/>
            <a:ext cx="1512720" cy="100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255.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fait partie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67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-&gt; Envoi sur le 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61160" y="1104840"/>
            <a:ext cx="0" cy="1790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81400" y="1541520"/>
            <a:ext cx="102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Toutes 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lisent 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paqu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6"/>
          <a:stretch/>
        </p:blipFill>
        <p:spPr>
          <a:xfrm>
            <a:off x="1515960" y="4541760"/>
            <a:ext cx="4442040" cy="11271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7"/>
          <a:stretch/>
        </p:blipFill>
        <p:spPr>
          <a:xfrm>
            <a:off x="2660760" y="549576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8"/>
          <a:stretch/>
        </p:blipFill>
        <p:spPr>
          <a:xfrm>
            <a:off x="1974960" y="397188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9"/>
          <a:stretch/>
        </p:blipFill>
        <p:spPr>
          <a:xfrm>
            <a:off x="3448080" y="397188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0"/>
          <a:stretch/>
        </p:blipFill>
        <p:spPr>
          <a:xfrm>
            <a:off x="4794120" y="397188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1"/>
          <a:stretch/>
        </p:blipFill>
        <p:spPr>
          <a:xfrm>
            <a:off x="4062240" y="553572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775040" y="5829480"/>
            <a:ext cx="2184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476440" y="5143320"/>
            <a:ext cx="0" cy="927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90640" y="55674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255.255.255.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13400" y="6012000"/>
            <a:ext cx="167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Non transféré 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le rou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65240" y="371304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Toutes les machines lisent le paqu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0400" y="4805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Ré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167.1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10200" y="61135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met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51120" y="42084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67.1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65800" y="45640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67.1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3720" y="45640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67.1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494240" y="568440"/>
            <a:ext cx="2900160" cy="62064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Appli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9960" y="576360"/>
            <a:ext cx="2906640" cy="623880"/>
          </a:xfrm>
          <a:prstGeom prst="rect">
            <a:avLst/>
          </a:prstGeom>
          <a:gradFill rotWithShape="0">
            <a:gsLst>
              <a:gs pos="0">
                <a:srgbClr val="bd4b00"/>
              </a:gs>
              <a:gs pos="50000">
                <a:srgbClr val="ff6600"/>
              </a:gs>
              <a:gs pos="100000">
                <a:srgbClr val="bd4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Appli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74640" y="1219320"/>
            <a:ext cx="5816880" cy="17269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Stack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35160" y="1066680"/>
            <a:ext cx="2895840" cy="1605240"/>
          </a:xfrm>
          <a:custGeom>
            <a:avLst/>
            <a:gdLst/>
            <a:ahLst/>
            <a:rect l="l" t="t" r="r" b="b"/>
            <a:pathLst>
              <a:path w="1824" h="1011">
                <a:moveTo>
                  <a:pt x="0" y="16"/>
                </a:moveTo>
                <a:cubicBezTo>
                  <a:pt x="296" y="513"/>
                  <a:pt x="592" y="1011"/>
                  <a:pt x="896" y="1008"/>
                </a:cubicBezTo>
                <a:cubicBezTo>
                  <a:pt x="1200" y="1005"/>
                  <a:pt x="1671" y="171"/>
                  <a:pt x="182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360" y="135108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Black"/>
              </a:rPr>
              <a:t>127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27600" y="131292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Black"/>
              </a:rPr>
              <a:t>127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74640" y="2997360"/>
            <a:ext cx="5816880" cy="6602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ouch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74640" y="3708360"/>
            <a:ext cx="5816880" cy="660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ouch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080" y="5103720"/>
            <a:ext cx="1369440" cy="7034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Arial Black"/>
              </a:rPr>
              <a:t>2</a:t>
            </a:r>
            <a:r>
              <a:rPr b="0" lang="fr-FR" sz="4000" spc="-1" strike="noStrike" baseline="30000">
                <a:solidFill>
                  <a:srgbClr val="ff3300"/>
                </a:solidFill>
                <a:latin typeface="Arial Black"/>
              </a:rPr>
              <a:t>n</a:t>
            </a:r>
            <a:r>
              <a:rPr b="0" lang="fr-FR" sz="4000" spc="-1" strike="noStrike">
                <a:solidFill>
                  <a:srgbClr val="ff3300"/>
                </a:solidFill>
                <a:latin typeface="Arial Black"/>
              </a:rPr>
              <a:t>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668600" y="1074600"/>
            <a:ext cx="4441680" cy="11271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886040" y="49212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4214880" y="2068560"/>
            <a:ext cx="809640" cy="5810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927680" y="2362320"/>
            <a:ext cx="2184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53240" y="2519280"/>
            <a:ext cx="180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La Gateway 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de J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92400" y="27144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Le PC de J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40040" y="1490760"/>
            <a:ext cx="2212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Réseau 12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89880" y="109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2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63840" y="208764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vers le reste du ré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8480" y="1833480"/>
            <a:ext cx="83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@IP 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2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03040" y="18972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@niv.2-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4392720" y="165240"/>
            <a:ext cx="1704960" cy="12506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426920" y="11095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12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77920" y="182520"/>
            <a:ext cx="105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Le serv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local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 Black"/>
              </a:rPr>
              <a:t>J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68760" y="698400"/>
            <a:ext cx="2298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40320" y="11095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@niv.2-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23360" y="44928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@dest = 12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73400" y="1206360"/>
            <a:ext cx="0" cy="142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73400" y="2641680"/>
            <a:ext cx="1676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48640" y="235440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@dest = 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63760" y="263376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Trame @dest = @niv.2-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91640" y="703440"/>
            <a:ext cx="26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 Black"/>
              </a:rPr>
              <a:t>Trame @dest = @niv.2-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22:43:45Z</dcterms:created>
  <dc:creator>Jean-Luc GATOUX</dc:creator>
  <dc:description/>
  <dc:language>en-US</dc:language>
  <cp:lastModifiedBy>Jean-Luc GATOUX</cp:lastModifiedBy>
  <dcterms:modified xsi:type="dcterms:W3CDTF">2001-12-23T23:05:03Z</dcterms:modified>
  <cp:revision>23</cp:revision>
  <dc:subject/>
  <dc:title>Aucun titre de diapositive</dc:title>
</cp:coreProperties>
</file>