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FE5-1847-45C3-A9A5-6BAE4DA3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1DF-12CA-4276-8F58-84799683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5A0-B02A-415C-88AF-EED875B6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045-B2BD-4CED-97EF-5660383E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AE8-4EEC-4F59-9618-48A29CA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B53-32BD-42BA-80B6-5A762723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2D9-31F5-4132-B638-E1224B29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73C-A2E1-4FD8-8669-386F4D8D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26D-4AA2-44B6-9143-180CE2B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BD1-33C3-45FD-BBBC-DA26C6DD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1EB-8598-4FC8-B641-A58219C7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242-7110-40CD-B776-E9FF5C91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D62F-F465-4389-861E-314A85217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1"/>
            <a:endCxn id="43" idx="0"/>
          </p:cNvCxnSpPr>
          <p:nvPr/>
        </p:nvCxnSpPr>
        <p:spPr>
          <a:xfrm flipH="1" flipV="1" rot="10800000">
            <a:off x="1066680" y="2171520"/>
            <a:ext cx="2248200" cy="2476800"/>
          </a:xfrm>
          <a:prstGeom prst="bentConnector4">
            <a:avLst>
              <a:gd name="adj1" fmla="val -10329"/>
              <a:gd name="adj2" fmla="val 5384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09680" y="228600"/>
            <a:ext cx="2133720" cy="2286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37120" y="219240"/>
            <a:ext cx="195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egment TCP/UDP + @IPd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762120"/>
            <a:ext cx="2057400" cy="3808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alcul @Réseau d ’@IPdest p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apport au masque d ’@IP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7840" y="1380960"/>
            <a:ext cx="2133720" cy="3812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x d ’@IP</a:t>
            </a: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dest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= Rx d ’@IP</a:t>
            </a: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sourc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981080"/>
            <a:ext cx="2057400" cy="3812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IP</a:t>
            </a: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Gatew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xiste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2057400" cy="3812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</a:t>
            </a: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Gatew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xiste dans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able ARP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981080"/>
            <a:ext cx="2057400" cy="3812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</a:t>
            </a: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dest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xiste dans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able ARP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352680"/>
            <a:ext cx="2057400" cy="381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équence ARP_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P_Re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3962520"/>
            <a:ext cx="2057400" cy="3808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</a:t>
            </a: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Gatew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trouvée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962520"/>
            <a:ext cx="2057400" cy="3808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</a:t>
            </a: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dest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trouvée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4648320"/>
            <a:ext cx="2057400" cy="3808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ICMP_Source_Quench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act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our l ’@IPdest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71920" y="5324400"/>
            <a:ext cx="2057400" cy="381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emporisation d ’é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6019920"/>
            <a:ext cx="2057400" cy="3808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TU niveau 2 &lt; Taille paquet IP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6705720"/>
            <a:ext cx="2057400" cy="3808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ragmentation paqu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38480" y="7772400"/>
            <a:ext cx="2133360" cy="2286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1120" y="777240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quet IP + @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54000" y="8001000"/>
            <a:ext cx="10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Arial"/>
              </a:rPr>
              <a:t>Vers couch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5" idx="2"/>
            <a:endCxn id="46" idx="0"/>
          </p:cNvCxnSpPr>
          <p:nvPr/>
        </p:nvCxnSpPr>
        <p:spPr>
          <a:xfrm flipH="1" rot="16200000">
            <a:off x="3165120" y="612720"/>
            <a:ext cx="297000" cy="2160"/>
          </a:xfrm>
          <a:prstGeom prst="bentConnector3">
            <a:avLst>
              <a:gd name="adj1" fmla="val 492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6" idx="2"/>
            <a:endCxn id="47" idx="0"/>
          </p:cNvCxnSpPr>
          <p:nvPr/>
        </p:nvCxnSpPr>
        <p:spPr>
          <a:xfrm flipH="1" rot="16200000">
            <a:off x="3195720" y="1261440"/>
            <a:ext cx="238320" cy="720"/>
          </a:xfrm>
          <a:prstGeom prst="bentConnector3">
            <a:avLst>
              <a:gd name="adj1" fmla="val 5007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48" idx="0"/>
          </p:cNvCxnSpPr>
          <p:nvPr/>
        </p:nvCxnSpPr>
        <p:spPr>
          <a:xfrm>
            <a:off x="4381560" y="1571760"/>
            <a:ext cx="304920" cy="4096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7" idx="1"/>
            <a:endCxn id="42" idx="0"/>
          </p:cNvCxnSpPr>
          <p:nvPr/>
        </p:nvCxnSpPr>
        <p:spPr>
          <a:xfrm flipV="1" rot="10800000">
            <a:off x="2095200" y="1571400"/>
            <a:ext cx="153000" cy="4096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8" idx="2"/>
            <a:endCxn id="49" idx="0"/>
          </p:cNvCxnSpPr>
          <p:nvPr/>
        </p:nvCxnSpPr>
        <p:spPr>
          <a:xfrm rot="16200000">
            <a:off x="4533840" y="2514600"/>
            <a:ext cx="304920" cy="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705640" y="7763040"/>
            <a:ext cx="990360" cy="2286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02120" y="775332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quet je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8" idx="3"/>
            <a:endCxn id="65" idx="0"/>
          </p:cNvCxnSpPr>
          <p:nvPr/>
        </p:nvCxnSpPr>
        <p:spPr>
          <a:xfrm>
            <a:off x="5715000" y="2171880"/>
            <a:ext cx="515160" cy="5581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flipV="1" rot="10800000">
            <a:off x="4152240" y="3066840"/>
            <a:ext cx="1080" cy="9151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 flipV="1" rot="10800000">
            <a:off x="2485440" y="2371320"/>
            <a:ext cx="1080" cy="159156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9" name=""/>
          <p:cNvCxnSpPr>
            <a:stCxn id="49" idx="3"/>
            <a:endCxn id="43" idx="0"/>
          </p:cNvCxnSpPr>
          <p:nvPr/>
        </p:nvCxnSpPr>
        <p:spPr>
          <a:xfrm flipH="1">
            <a:off x="3314520" y="2857680"/>
            <a:ext cx="2400840" cy="1791000"/>
          </a:xfrm>
          <a:prstGeom prst="bentConnector4">
            <a:avLst>
              <a:gd name="adj1" fmla="val -9628"/>
              <a:gd name="adj2" fmla="val 5532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80880" y="7772400"/>
            <a:ext cx="990720" cy="2286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7720" y="776304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quet je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1"/>
            <a:endCxn id="71" idx="0"/>
          </p:cNvCxnSpPr>
          <p:nvPr/>
        </p:nvCxnSpPr>
        <p:spPr>
          <a:xfrm flipV="1" rot="10800000">
            <a:off x="905400" y="4152960"/>
            <a:ext cx="161640" cy="3610440"/>
          </a:xfrm>
          <a:prstGeom prst="bentConnector4">
            <a:avLst>
              <a:gd name="adj1" fmla="val 143973"/>
              <a:gd name="adj2" fmla="val 5271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1" idx="1"/>
            <a:endCxn id="43" idx="0"/>
          </p:cNvCxnSpPr>
          <p:nvPr/>
        </p:nvCxnSpPr>
        <p:spPr>
          <a:xfrm flipV="1" rot="10800000">
            <a:off x="3314160" y="4152960"/>
            <a:ext cx="343440" cy="4957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1" idx="3"/>
            <a:endCxn id="65" idx="0"/>
          </p:cNvCxnSpPr>
          <p:nvPr/>
        </p:nvCxnSpPr>
        <p:spPr>
          <a:xfrm>
            <a:off x="5715000" y="4152960"/>
            <a:ext cx="515160" cy="36007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3" idx="3"/>
            <a:endCxn id="53" idx="0"/>
          </p:cNvCxnSpPr>
          <p:nvPr/>
        </p:nvCxnSpPr>
        <p:spPr>
          <a:xfrm>
            <a:off x="4343400" y="4838760"/>
            <a:ext cx="257400" cy="4860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3" idx="2"/>
            <a:endCxn id="54" idx="0"/>
          </p:cNvCxnSpPr>
          <p:nvPr/>
        </p:nvCxnSpPr>
        <p:spPr>
          <a:xfrm rot="16200000">
            <a:off x="2819160" y="5524560"/>
            <a:ext cx="991080" cy="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53" idx="2"/>
            <a:endCxn id="54" idx="0"/>
          </p:cNvCxnSpPr>
          <p:nvPr/>
        </p:nvCxnSpPr>
        <p:spPr>
          <a:xfrm rot="5400000">
            <a:off x="3800160" y="5219640"/>
            <a:ext cx="314640" cy="1286280"/>
          </a:xfrm>
          <a:prstGeom prst="bentConnector5">
            <a:avLst>
              <a:gd name="adj1" fmla="val 73654"/>
              <a:gd name="adj2" fmla="val -97984"/>
              <a:gd name="adj3" fmla="val -1950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54" idx="3"/>
            <a:endCxn id="55" idx="0"/>
          </p:cNvCxnSpPr>
          <p:nvPr/>
        </p:nvCxnSpPr>
        <p:spPr>
          <a:xfrm>
            <a:off x="4343400" y="6210360"/>
            <a:ext cx="343080" cy="4957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54" idx="2"/>
            <a:endCxn id="57" idx="0"/>
          </p:cNvCxnSpPr>
          <p:nvPr/>
        </p:nvCxnSpPr>
        <p:spPr>
          <a:xfrm flipH="1" rot="16200000">
            <a:off x="2629800" y="7085520"/>
            <a:ext cx="1371960" cy="2520"/>
          </a:xfrm>
          <a:prstGeom prst="bentConnector3">
            <a:avLst>
              <a:gd name="adj1" fmla="val 5018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5" idx="2"/>
            <a:endCxn id="57" idx="0"/>
          </p:cNvCxnSpPr>
          <p:nvPr/>
        </p:nvCxnSpPr>
        <p:spPr>
          <a:xfrm rot="5400000">
            <a:off x="3658320" y="6744600"/>
            <a:ext cx="686160" cy="1369800"/>
          </a:xfrm>
          <a:prstGeom prst="bentConnector3">
            <a:avLst>
              <a:gd name="adj1" fmla="val 5034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5962680" y="4095720"/>
            <a:ext cx="74520" cy="1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76800" y="4076640"/>
            <a:ext cx="7488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560" y="21448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73960" y="393552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64800" y="151596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5080" y="145908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4760" y="239220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83320" y="194472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26720" y="231624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880" y="26208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840" y="301140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3760" y="4381560"/>
            <a:ext cx="7488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9640" y="4390920"/>
            <a:ext cx="7452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5840" y="392580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64680" y="393552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07760" y="39448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52" idx="3"/>
            <a:endCxn id="43" idx="0"/>
          </p:cNvCxnSpPr>
          <p:nvPr/>
        </p:nvCxnSpPr>
        <p:spPr>
          <a:xfrm>
            <a:off x="3124080" y="4152960"/>
            <a:ext cx="190800" cy="4957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322160" y="46116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03080" y="599292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4880" y="501156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4600" y="639288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0600" y="219240"/>
            <a:ext cx="2133360" cy="2286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0320" y="209520"/>
            <a:ext cx="125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rame MAC reç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9680" y="1238400"/>
            <a:ext cx="2124000" cy="2286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xtraction paquet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040" y="676440"/>
            <a:ext cx="2133720" cy="3808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dest = @MAC_If_Routeur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5840" y="1258920"/>
            <a:ext cx="1549440" cy="550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f =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x = Rés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R = Table de Rou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680" y="2066760"/>
            <a:ext cx="2133360" cy="29556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IPdest = @IP_Routeur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680" y="1638360"/>
            <a:ext cx="2124000" cy="2286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xtraction @IPd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095560"/>
            <a:ext cx="1600200" cy="228600"/>
          </a:xfrm>
          <a:prstGeom prst="flowChartTermina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50240" y="2076480"/>
            <a:ext cx="108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dmin. ro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9680" y="2571840"/>
            <a:ext cx="2133360" cy="3808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Rx_IPdest connue en TR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5581800"/>
            <a:ext cx="1676520" cy="333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CMP_Dest_Unreach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62240" y="2571840"/>
            <a:ext cx="2133720" cy="3808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oute_Default existe en TR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762120"/>
            <a:ext cx="1600200" cy="228600"/>
          </a:xfrm>
          <a:prstGeom prst="flowChartTermina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49520" y="74304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rame ignor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43680" y="8585280"/>
            <a:ext cx="1600200" cy="228600"/>
          </a:xfrm>
          <a:prstGeom prst="flowChartTermina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26000" y="858528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quet je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680" y="3209760"/>
            <a:ext cx="2133360" cy="3812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Rx_dest direct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onnecté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81120" y="4610160"/>
            <a:ext cx="2057400" cy="3808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équence ARP_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P_Re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9680" y="3828960"/>
            <a:ext cx="2133360" cy="3812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_dest existe dans l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able ARP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62240" y="3562200"/>
            <a:ext cx="1800360" cy="3812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_Next_Gateway exi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n table ARP (si LAN)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5267160"/>
            <a:ext cx="2133720" cy="3812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_Next_Gateway trouv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si LAN)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86040" y="5962680"/>
            <a:ext cx="2124000" cy="2286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TL = TTL 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95400" y="6391440"/>
            <a:ext cx="2133720" cy="19980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TL = 0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66960" y="6819840"/>
            <a:ext cx="2162160" cy="2192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TU niveau 2 &lt; Taille paquet IP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8160" y="7696080"/>
            <a:ext cx="2057400" cy="257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ragmentation paqu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7680" y="5334120"/>
            <a:ext cx="2133720" cy="26676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_dest trouvée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66960" y="7267680"/>
            <a:ext cx="2057400" cy="1904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it DF = 0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4320" y="7210440"/>
            <a:ext cx="1457280" cy="333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CMP_Don ’t Fra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19520" y="6343560"/>
            <a:ext cx="1457280" cy="333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CMP_Tim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4640" y="8550360"/>
            <a:ext cx="2133720" cy="2286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5800" y="854064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quet IP + @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" y="8774280"/>
            <a:ext cx="23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Arial"/>
              </a:rPr>
              <a:t>Vers couche 2 d ’interface de sor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0040" y="4478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2760" y="885960"/>
            <a:ext cx="657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90680" y="10573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90680" y="146700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80960" y="1866960"/>
            <a:ext cx="0" cy="190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362320"/>
            <a:ext cx="0" cy="20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43040" y="2228760"/>
            <a:ext cx="657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52520" y="2952720"/>
            <a:ext cx="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43160" y="3591000"/>
            <a:ext cx="0" cy="247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43040" y="2790720"/>
            <a:ext cx="619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13" idx="3"/>
            <a:endCxn id="112" idx="0"/>
          </p:cNvCxnSpPr>
          <p:nvPr/>
        </p:nvCxnSpPr>
        <p:spPr>
          <a:xfrm>
            <a:off x="5295600" y="2762280"/>
            <a:ext cx="724680" cy="2820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13" idx="2"/>
            <a:endCxn id="121" idx="0"/>
          </p:cNvCxnSpPr>
          <p:nvPr/>
        </p:nvCxnSpPr>
        <p:spPr>
          <a:xfrm rot="5400000">
            <a:off x="3840480" y="3173760"/>
            <a:ext cx="610200" cy="16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18" idx="3"/>
            <a:endCxn id="121" idx="0"/>
          </p:cNvCxnSpPr>
          <p:nvPr/>
        </p:nvCxnSpPr>
        <p:spPr>
          <a:xfrm>
            <a:off x="2543040" y="3400200"/>
            <a:ext cx="1519920" cy="162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809720" y="4210200"/>
            <a:ext cx="0" cy="1123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48080" y="3943440"/>
            <a:ext cx="0" cy="1333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20" idx="1"/>
            <a:endCxn id="123" idx="1"/>
          </p:cNvCxnSpPr>
          <p:nvPr/>
        </p:nvCxnSpPr>
        <p:spPr>
          <a:xfrm flipH="1" flipV="1" rot="10800000">
            <a:off x="408600" y="4017960"/>
            <a:ext cx="1477080" cy="2057760"/>
          </a:xfrm>
          <a:prstGeom prst="bentConnector3">
            <a:avLst>
              <a:gd name="adj1" fmla="val -1548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076480" y="560088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67200" y="5648400"/>
            <a:ext cx="0" cy="31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27" idx="3"/>
            <a:endCxn id="112" idx="1"/>
          </p:cNvCxnSpPr>
          <p:nvPr/>
        </p:nvCxnSpPr>
        <p:spPr>
          <a:xfrm>
            <a:off x="2381400" y="5466960"/>
            <a:ext cx="2800800" cy="281880"/>
          </a:xfrm>
          <a:prstGeom prst="bentConnector3">
            <a:avLst>
              <a:gd name="adj1" fmla="val 68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21" idx="3"/>
            <a:endCxn id="123" idx="3"/>
          </p:cNvCxnSpPr>
          <p:nvPr/>
        </p:nvCxnSpPr>
        <p:spPr>
          <a:xfrm flipH="1">
            <a:off x="4009680" y="3752640"/>
            <a:ext cx="953280" cy="2324520"/>
          </a:xfrm>
          <a:prstGeom prst="bentConnector3">
            <a:avLst>
              <a:gd name="adj1" fmla="val -581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2943360" y="6191280"/>
            <a:ext cx="0" cy="20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29120" y="6496200"/>
            <a:ext cx="590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33640" y="6591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43360" y="7039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24280" y="745812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25" idx="1"/>
            <a:endCxn id="131" idx="0"/>
          </p:cNvCxnSpPr>
          <p:nvPr/>
        </p:nvCxnSpPr>
        <p:spPr>
          <a:xfrm flipV="1" rot="10800000">
            <a:off x="1470960" y="6928200"/>
            <a:ext cx="396000" cy="1621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26" idx="2"/>
            <a:endCxn id="131" idx="0"/>
          </p:cNvCxnSpPr>
          <p:nvPr/>
        </p:nvCxnSpPr>
        <p:spPr>
          <a:xfrm rot="5400000">
            <a:off x="1870560" y="7554240"/>
            <a:ext cx="597600" cy="1395720"/>
          </a:xfrm>
          <a:prstGeom prst="bentConnector3">
            <a:avLst>
              <a:gd name="adj1" fmla="val 4996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3924360" y="7372440"/>
            <a:ext cx="399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34200" y="591516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81760" y="667692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00880" y="7543800"/>
            <a:ext cx="0" cy="103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22" idx="3"/>
            <a:endCxn id="112" idx="0"/>
          </p:cNvCxnSpPr>
          <p:nvPr/>
        </p:nvCxnSpPr>
        <p:spPr>
          <a:xfrm>
            <a:off x="4905360" y="5457960"/>
            <a:ext cx="1115280" cy="1245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586240" y="64440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1400" y="100332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8560" y="199872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86000" y="231948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40160" y="256536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11800" y="252252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64400" y="292104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240" y="292104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35960" y="35560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40160" y="317196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46360" y="419580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92640" y="393696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88880" y="37288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200" y="4010040"/>
            <a:ext cx="25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7000" y="524988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51520" y="523548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55320" y="574992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13680" y="559116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07880" y="628344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39400" y="74232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30760" y="656280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59160" y="670716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53800" y="7020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11760" y="715500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0600" y="219240"/>
            <a:ext cx="2133360" cy="2286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0320" y="209520"/>
            <a:ext cx="125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rame MAC reç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24000" y="2000160"/>
            <a:ext cx="2124000" cy="2286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xtraction paquet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040" y="676440"/>
            <a:ext cx="2133720" cy="3808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MACdest = @MAC_Station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2924280"/>
            <a:ext cx="2133720" cy="29520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@IPdest = @IP_Station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15080" y="2952720"/>
            <a:ext cx="1600200" cy="271440"/>
          </a:xfrm>
          <a:prstGeom prst="flowChartTermina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92640" y="296244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quet je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762120"/>
            <a:ext cx="1600200" cy="228600"/>
          </a:xfrm>
          <a:prstGeom prst="flowChartTermina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49520" y="74304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rame ignor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0040" y="4478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52760" y="885960"/>
            <a:ext cx="657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0680" y="10573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91040" y="2228760"/>
            <a:ext cx="0" cy="17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2240" y="3219480"/>
            <a:ext cx="0" cy="20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57720" y="3086280"/>
            <a:ext cx="657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86240" y="64440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91400" y="100332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72680" y="31798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3960" y="288144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040" y="1228680"/>
            <a:ext cx="2133720" cy="3808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mp Protocole trame 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= IP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2920" y="2009880"/>
            <a:ext cx="1600200" cy="228600"/>
          </a:xfrm>
          <a:prstGeom prst="flowChartTermina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0120" y="2009880"/>
            <a:ext cx="14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ers autre protoc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3409920"/>
            <a:ext cx="2133720" cy="33336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F = 1 OU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MF = 0 AND OFFSET&lt;&gt;0) 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4029120"/>
            <a:ext cx="2124000" cy="3427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cess de réassemb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s paquet IP fragment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00440" y="4029120"/>
            <a:ext cx="2124360" cy="3427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TL = TTL - 1 (ttes les second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00440" y="4676760"/>
            <a:ext cx="2133720" cy="33336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TL = 0 sur un fragment 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00440" y="5267160"/>
            <a:ext cx="2124360" cy="343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CMP_Tim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15080" y="5896080"/>
            <a:ext cx="1600200" cy="228600"/>
          </a:xfrm>
          <a:prstGeom prst="flowChartTermina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40000" y="5877000"/>
            <a:ext cx="145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ous fragments jet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5276880"/>
            <a:ext cx="2133720" cy="33336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mp Protocole du paquet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onnu 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24000" y="5915160"/>
            <a:ext cx="2124000" cy="3427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CMP_Protocole_incon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2400480"/>
            <a:ext cx="2133720" cy="29520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eckSum OK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0600" y="7029360"/>
            <a:ext cx="2133360" cy="2286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720" y="7020000"/>
            <a:ext cx="210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egment TCP/UDP + @IP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880" y="7250040"/>
            <a:ext cx="175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Arial"/>
              </a:rPr>
              <a:t>Vers couches supérie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57680" y="7048440"/>
            <a:ext cx="1600200" cy="228600"/>
          </a:xfrm>
          <a:prstGeom prst="flowChartTermina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11200" y="702936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quet je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85760" y="1609560"/>
            <a:ext cx="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09" idx="3"/>
            <a:endCxn id="192" idx="0"/>
          </p:cNvCxnSpPr>
          <p:nvPr/>
        </p:nvCxnSpPr>
        <p:spPr>
          <a:xfrm>
            <a:off x="2552400" y="1419120"/>
            <a:ext cx="633960" cy="5814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3162240" y="2695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62240" y="374328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48000" y="4210200"/>
            <a:ext cx="352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4371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5010120"/>
            <a:ext cx="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561024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5" idx="1"/>
            <a:endCxn id="219" idx="0"/>
          </p:cNvCxnSpPr>
          <p:nvPr/>
        </p:nvCxnSpPr>
        <p:spPr>
          <a:xfrm flipV="1" rot="10800000">
            <a:off x="3190320" y="4843080"/>
            <a:ext cx="1410120" cy="434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2" idx="1"/>
            <a:endCxn id="219" idx="0"/>
          </p:cNvCxnSpPr>
          <p:nvPr/>
        </p:nvCxnSpPr>
        <p:spPr>
          <a:xfrm flipH="1" flipV="1" rot="10800000">
            <a:off x="2123640" y="3575520"/>
            <a:ext cx="1067760" cy="1701000"/>
          </a:xfrm>
          <a:prstGeom prst="bentConnector4">
            <a:avLst>
              <a:gd name="adj1" fmla="val -21416"/>
              <a:gd name="adj2" fmla="val 7383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3181320" y="561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38520" y="6248520"/>
            <a:ext cx="0" cy="79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19" idx="1"/>
            <a:endCxn id="222" idx="0"/>
          </p:cNvCxnSpPr>
          <p:nvPr/>
        </p:nvCxnSpPr>
        <p:spPr>
          <a:xfrm flipV="1" rot="10800000">
            <a:off x="1456560" y="5442480"/>
            <a:ext cx="667440" cy="15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3172680" y="371304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45720" y="522936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1200" y="498312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52040" y="12016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27440" y="158256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49680" y="335772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59520" y="231768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6760" y="461340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48200" y="5564160"/>
            <a:ext cx="3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72680" y="26748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21" idx="3"/>
            <a:endCxn id="196" idx="0"/>
          </p:cNvCxnSpPr>
          <p:nvPr/>
        </p:nvCxnSpPr>
        <p:spPr>
          <a:xfrm>
            <a:off x="4257720" y="2547720"/>
            <a:ext cx="1364400" cy="415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20:34:07Z</dcterms:created>
  <dc:creator>Jean-Luc GATOUX</dc:creator>
  <dc:description/>
  <dc:language>en-US</dc:language>
  <cp:lastModifiedBy>Jean-Luc GATOUX</cp:lastModifiedBy>
  <dcterms:modified xsi:type="dcterms:W3CDTF">2001-12-23T22:41:26Z</dcterms:modified>
  <cp:revision>3</cp:revision>
  <dc:subject/>
  <dc:title>Aucun titre de diapositive</dc:title>
</cp:coreProperties>
</file>